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1B8-AA03-4A4B-AB1A-56990DA1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E0D-58BB-476F-9CC5-CEE509DE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C2A-5F4D-49DB-A93F-EC2ACC690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9F65-05D0-4DB5-AA57-0818A445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A4A-47A1-47D1-9F2F-39A5C2B9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7D8-AB1F-45C6-89F4-4CF98EF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EB2-1A01-4A51-BDC4-74253203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696-8929-4F62-A118-84463C2F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544-CF7F-4CAC-B556-953E0CE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9DD-B411-429F-9803-F77AA5D5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BD1-1424-4904-AA0B-22417A3E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F89-A637-4DFC-8D31-A88C750B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236-CC9B-446B-BB0E-66BFD701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638-FAA1-4F1A-8374-AEEB2E1F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C85-1B9E-4208-ADCA-741E3C0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F4F-01C5-4B91-81E5-59079BD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06A0-8B9E-434C-84C7-9BECF787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learning how to integrate technology into her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Go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9044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451320"/>
            <a:ext cx="16128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st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1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Gooch,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Gooch, 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 in Special Ed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 and 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8816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9544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762120" y="6664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am born to Mike and Mar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1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41588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rn 16 and become a know-it-all.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my first job teaching soon aft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egan my Master’s Degree in Special Educatio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dear Mamaw passes awa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 many new and exciting change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mer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1" descr=""/>
          <p:cNvPicPr/>
          <p:nvPr/>
        </p:nvPicPr>
        <p:blipFill>
          <a:blip r:embed="rId5"/>
          <a:stretch/>
        </p:blipFill>
        <p:spPr>
          <a:xfrm>
            <a:off x="-20520" y="378000"/>
            <a:ext cx="1784160" cy="218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6" descr=""/>
          <p:cNvPicPr/>
          <p:nvPr/>
        </p:nvPicPr>
        <p:blipFill>
          <a:blip r:embed="rId6"/>
          <a:stretch/>
        </p:blipFill>
        <p:spPr>
          <a:xfrm>
            <a:off x="2057400" y="2449440"/>
            <a:ext cx="476280" cy="582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7" descr=""/>
          <p:cNvPicPr/>
          <p:nvPr/>
        </p:nvPicPr>
        <p:blipFill>
          <a:blip r:embed="rId7"/>
          <a:stretch/>
        </p:blipFill>
        <p:spPr>
          <a:xfrm>
            <a:off x="2057400" y="3181320"/>
            <a:ext cx="476280" cy="58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8" descr=""/>
          <p:cNvPicPr/>
          <p:nvPr/>
        </p:nvPicPr>
        <p:blipFill>
          <a:blip r:embed="rId8"/>
          <a:stretch/>
        </p:blipFill>
        <p:spPr>
          <a:xfrm>
            <a:off x="2066760" y="5975280"/>
            <a:ext cx="474840" cy="582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9" descr=""/>
          <p:cNvPicPr/>
          <p:nvPr/>
        </p:nvPicPr>
        <p:blipFill>
          <a:blip r:embed="rId9"/>
          <a:stretch/>
        </p:blipFill>
        <p:spPr>
          <a:xfrm>
            <a:off x="2048040" y="5284800"/>
            <a:ext cx="475920" cy="58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0" descr=""/>
          <p:cNvPicPr/>
          <p:nvPr/>
        </p:nvPicPr>
        <p:blipFill>
          <a:blip r:embed="rId10"/>
          <a:stretch/>
        </p:blipFill>
        <p:spPr>
          <a:xfrm>
            <a:off x="2057400" y="4581360"/>
            <a:ext cx="476280" cy="58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"/>
          <p:cNvPicPr/>
          <p:nvPr/>
        </p:nvPicPr>
        <p:blipFill>
          <a:blip r:embed="rId11"/>
          <a:stretch/>
        </p:blipFill>
        <p:spPr>
          <a:xfrm>
            <a:off x="2066760" y="3862440"/>
            <a:ext cx="474840" cy="58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12"/>
          <a:stretch/>
        </p:blipFill>
        <p:spPr>
          <a:xfrm>
            <a:off x="519120" y="5326200"/>
            <a:ext cx="561960" cy="57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13"/>
          <a:stretch/>
        </p:blipFill>
        <p:spPr>
          <a:xfrm>
            <a:off x="1424160" y="6045120"/>
            <a:ext cx="55404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14"/>
          <a:stretch/>
        </p:blipFill>
        <p:spPr>
          <a:xfrm>
            <a:off x="-22320" y="5308560"/>
            <a:ext cx="425520" cy="6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15"/>
          <a:stretch/>
        </p:blipFill>
        <p:spPr>
          <a:xfrm>
            <a:off x="833400" y="6029280"/>
            <a:ext cx="571680" cy="68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16"/>
          <a:stretch/>
        </p:blipFill>
        <p:spPr>
          <a:xfrm>
            <a:off x="-20520" y="6056280"/>
            <a:ext cx="8208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17"/>
          <a:stretch/>
        </p:blipFill>
        <p:spPr>
          <a:xfrm>
            <a:off x="1219320" y="5326200"/>
            <a:ext cx="7300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learning how to integrate technology into her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Go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152280" y="49766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4"/>
          <p:cNvSpPr/>
          <p:nvPr/>
        </p:nvSpPr>
        <p:spPr>
          <a:xfrm>
            <a:off x="2133720" y="1905120"/>
            <a:ext cx="31240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September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Kingston, T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Long Distance Relations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Bapt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eaching, working out, and preparing lesson pl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veling, Snow Skiing, Boating, Cooking/ Ba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Just a Kiss (Lady Antebellum), If We Ever Meet Again (Timberla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aturing Katy Perry), Dirt Road Anthem (Jason Aldean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op Gun, Back to the Future, Stand By Me, Th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lind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ville, Dexter, Law and Order: SVU, NCIS, Covert Affairs,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cessary Roughness, In Plain Sight, Hot in Clevel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utsiders, To Kill a Mockingbird, Secret Life of B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838080" y="54864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http://msgooch.wikispaces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mgooch21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0" descr="TTU.jpg"/>
          <p:cNvPicPr/>
          <p:nvPr/>
        </p:nvPicPr>
        <p:blipFill>
          <a:blip r:embed="rId2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8" name="Picture 41" descr=""/>
          <p:cNvPicPr/>
          <p:nvPr/>
        </p:nvPicPr>
        <p:blipFill>
          <a:blip r:embed="rId3"/>
          <a:stretch/>
        </p:blipFill>
        <p:spPr>
          <a:xfrm>
            <a:off x="-15840" y="380880"/>
            <a:ext cx="1784160" cy="2183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4"/>
          <p:cNvSpPr/>
          <p:nvPr/>
        </p:nvSpPr>
        <p:spPr>
          <a:xfrm>
            <a:off x="139680" y="3451320"/>
            <a:ext cx="16128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st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1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Gooch,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Gooch, 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 in Special Ed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4"/>
          <a:stretch/>
        </p:blipFill>
        <p:spPr>
          <a:xfrm>
            <a:off x="157320" y="5410080"/>
            <a:ext cx="690480" cy="460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5"/>
          <a:stretch/>
        </p:blipFill>
        <p:spPr>
          <a:xfrm>
            <a:off x="101520" y="6019920"/>
            <a:ext cx="80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68280"/>
            <a:ext cx="83818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Go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8381880" cy="297180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iend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08440"/>
            <a:ext cx="15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ssica'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1066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Big Mov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0396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learning how to integrate technology into her classroo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"/>
          <p:cNvPicPr/>
          <p:nvPr/>
        </p:nvPicPr>
        <p:blipFill>
          <a:blip r:embed="rId2"/>
          <a:stretch/>
        </p:blipFill>
        <p:spPr>
          <a:xfrm>
            <a:off x="0" y="368280"/>
            <a:ext cx="89208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3"/>
          <a:stretch/>
        </p:blipFill>
        <p:spPr>
          <a:xfrm>
            <a:off x="700200" y="1781280"/>
            <a:ext cx="1558800" cy="103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4"/>
          <a:stretch/>
        </p:blipFill>
        <p:spPr>
          <a:xfrm>
            <a:off x="882720" y="3192480"/>
            <a:ext cx="1130400" cy="1515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2467080" y="1752480"/>
            <a:ext cx="1422360" cy="1067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6"/>
          <a:stretch/>
        </p:blipFill>
        <p:spPr>
          <a:xfrm>
            <a:off x="2971800" y="3352680"/>
            <a:ext cx="1766880" cy="1352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7"/>
          <a:stretch/>
        </p:blipFill>
        <p:spPr>
          <a:xfrm>
            <a:off x="4249800" y="1762200"/>
            <a:ext cx="1579680" cy="105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8"/>
          <a:stretch/>
        </p:blipFill>
        <p:spPr>
          <a:xfrm>
            <a:off x="5435640" y="3513240"/>
            <a:ext cx="1311120" cy="12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9"/>
          <a:stretch/>
        </p:blipFill>
        <p:spPr>
          <a:xfrm>
            <a:off x="6172200" y="1781280"/>
            <a:ext cx="1227240" cy="124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10"/>
          <a:stretch/>
        </p:blipFill>
        <p:spPr>
          <a:xfrm>
            <a:off x="7764480" y="3449520"/>
            <a:ext cx="1303200" cy="125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11"/>
          <a:stretch/>
        </p:blipFill>
        <p:spPr>
          <a:xfrm>
            <a:off x="787320" y="4962600"/>
            <a:ext cx="965160" cy="1293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12"/>
          <a:stretch/>
        </p:blipFill>
        <p:spPr>
          <a:xfrm>
            <a:off x="7899480" y="1781280"/>
            <a:ext cx="1168200" cy="12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13"/>
          <a:stretch/>
        </p:blipFill>
        <p:spPr>
          <a:xfrm>
            <a:off x="2124000" y="5122800"/>
            <a:ext cx="1360440" cy="103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14"/>
          <a:stretch/>
        </p:blipFill>
        <p:spPr>
          <a:xfrm>
            <a:off x="3638520" y="4978440"/>
            <a:ext cx="1038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TG1116</cp:lastModifiedBy>
  <dcterms:modified xsi:type="dcterms:W3CDTF">2011-08-31T00:38:29Z</dcterms:modified>
  <cp:revision>35</cp:revision>
  <dc:subject/>
  <dc:title>Profile</dc:title>
</cp:coreProperties>
</file>